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5E3E0-0E75-413F-80CB-5BC929E7DB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F1545-3CAE-4D8E-91CA-78BA902AB5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C134F-1FD6-4B06-A6F1-6E4F583358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A04F6-37E5-4B3B-B3C1-2256CF3253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204A9-6126-4DC6-BAD7-A46AC1779D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A0A08-A834-47C2-A5F1-3BE12BE2AF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9479C-EAAA-4BCD-A990-A18DD8E543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A7DBD-31B6-4433-A3D6-4A77654108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8473F-9147-4AAF-BFCE-3D738ECB84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67FA0-E481-49C1-A4FB-3A0AB1B19E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9C58C-8180-4E18-99E7-F455349E3C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1B0A7-3796-4AAC-85FE-CF38C23DC1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1197-EDF8-4F8B-BABA-5BD8085F8E7B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5896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Life - Tips and Tricks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nny Robb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458120" y="3009960"/>
            <a:ext cx="10094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WHERE cl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any WHERE clauses can be attached to one PERFORM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WHERE keywords can be used only once in a WHER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ple WHERE clauses can be used to process multiple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WHERE keywords must be preceded by values within parenthe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spaces can exist between the keyword and the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PERFORM TRANSLATE WHERE TPNICKN(CS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RXDATE(09/15/0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PNICKN(ABF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NG cla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ike the WHER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an only be included once in the PERFORM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ENVELOPE DATA EXTR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ING INTERCHANGE(Y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INTCTLNO(000456789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statement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comments to the PERFORM statement synt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&gt;&gt;&gt;  Company ABC translation  &lt;&lt;&lt;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WHERE TPNICKN(CS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RXDATE(09/15/03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&gt;&gt;&gt;   Company ABC translation  &lt;&lt;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mm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Generic command for executing commands in a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vokes the command chaining fe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OCESS and RECEIVE AND PROCESS are the only commands that invoke command chai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PROC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FILEID(APDATA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RRFILTER vari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ilter and eliminate warning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GNORE to report all errors regardless of instructions in the 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TO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DIERRFILTER(1-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TO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DIERRFILTER(IGNORE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391760"/>
            <a:ext cx="73486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 comm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late data in any format to any other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 data transformation maps to translate the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INFILE(APDATA01) INTYPE(M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TAX(X) OUTFILE(APOU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SYNTAX is only used with the TRANSFORM command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 - Application data, E -  EDI data, X - XM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YPE is only used with the TRANSFORM command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Q - MQSeries que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software updates that need to be made in preparation for migrating from DI 3.1 to WDI 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WDI for zOS runs on zOS version 1 or later with Transaction Server (CICS) for OS/390 version 1.3 or later, or Transaction Server for zOS version 2.2, DB2 for MVS or OS/390 version 7, MQSeries version 5.3 and XML Toolkit version 1.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objects get migrated going from DI 3.1 to WDI 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All meta data objects (standards, data formats, and maps) get converted and migrated.  Profiles get migrated as do control strings.  Operational data does not get migra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will my Host maps look like after migr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Host maps will show up in the Send and Receive tabs of WDI Client V3.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ow is migration accomplish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Migration is a set of steps in the installation procedure.  The migration is accomplished via WDI Export and Import facilities.  A conversion flag is used to convert “host” format objects to the common database structure of WDI V3.2.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I need to test the migrated objec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, test the translator because the control string was migrated as is from the host platform.  A recompilation of the map should yield a different control string - but provide the same resul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new features will be available after migr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WDI V3.2 offers any-to-any mapping and more visible ways of viewing and maintaining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s VSAM support in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VSAM is not supported.  The import process moves the data to DB2 tables in WDI V3.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happens if I do not migrate my map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ou do not want to execute Send/Receive maps in WDI V3.2, and that you want to rewrite your maps using the new any-to-any mapper.  A recommended approach is that you consider migration and then rewrite the maps at your convenie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an I run XML translation in CICS on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DTC maps run in CIC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Send/Receive XML maps run in C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In WDI V3.2 the XML preprocessor is supported in CICS.  Also data transformation maps can be used to translate XML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JCL changes for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The any-to-any translator uses the TRANSFORM verb of the PERFORM command.  The XMLDICT and XMLDTDS keywords point to partitioned datasets (PDS) of XML obje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changes to the DI translator API between DI V3.1 and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     Answer: No. The interface to EDIFFUT and EDIFFUS is the s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I need to change any of the PERFORM command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No. There are some additional options to existing commands and there is a new TRANSFORM command you may want to consid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an I inter operate migrated WDI V3.2, WDI V3.2 zOS, with  a WDI V3.2 AIX/Windows or can I develop on AIX and deploy on zOS, export from one to the oth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Absolutely. In addition, a single WDI Client allows a window into all systems.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able of Contents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of Command Ch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File Definition (INPUTQ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File Definition (PRT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Chain data flow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Language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from DI V3.1 to WDI V3.2 - Questions and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Design Command Chain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2400" y="1298160"/>
            <a:ext cx="734868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input file or MQ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PUTQ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output file or MQ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TFILE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command chain that will connect the input and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ERFORM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st use PERFORM process to initiate command chaining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Input for Command Chain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Q - input fil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tup MQ queue (INPUTQ) with triggering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INPUTQ  as a “Service Profile” under “Network Profile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PERFORM statement to Service Profile (INPUTQ)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AND SEND WH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FILE(INPUT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WFMTID(ADF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WTEST(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ID(INPUT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FILE(N);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In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Q - input file definition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ath to PRTFILE under the “Common Files” t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f needed, define path to other files (Tracking, Exception, Work File, Report File, Query Fil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d path 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PRT\PRTFILE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EXC\EXCEPT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WRK\WORK.tx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Out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TFILE - output fil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tup flat file (PRTFILE) under “Network Profiles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RTFILE  as a “Service Profile” under “Network Profile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PERFORM statement to Service Profile (PRTFILE)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SEND WH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ID(CLASSTE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ID(PRTFI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FILE(N)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Out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TFILE - output file definition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ath to PRTFILE under the “Input Files” t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d path 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PRT\PRTFILE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Chain Data Flow Diagram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090440" y="944640"/>
          <a:ext cx="6747120" cy="49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0440" y="944640"/>
                    <a:ext cx="6747120" cy="49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PERFORM stat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ach PERFORM is handled and processed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ach PERFORM syntax is handled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ubsequent PERFORM statement will not be process, if a non-zero condition occurred in the prior PERFORM statemen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SE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3-09-09T17:35:21Z</cp:lastPrinted>
  <dcterms:modified xsi:type="dcterms:W3CDTF">2003-09-17T17:52:03Z</dcterms:modified>
  <cp:revision>912</cp:revision>
  <dc:subject/>
  <dc:title>IBM Software Group</dc:title>
</cp:coreProperties>
</file>